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9F4B-E900-407B-9119-B66AF4726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9993-B452-43E4-A6BB-4F79506F6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CDEF-2D20-4C36-8436-8742F102A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599A-E0DA-401B-80DC-D2837D701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CF35-96EA-41ED-91A0-2250A5F22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A9A6-5653-4A79-9B21-EBAF3101D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239D-AD4B-4BFE-85F4-A7AC2FEF0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33A6-71E6-45FC-8712-1875251C8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B496-ED8A-4F6E-B129-8702E439A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94A7-B9CC-40E1-AA89-ADC633FA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F34A-E104-4BEE-82E2-3BC24F21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190F-C3AD-4113-94CF-AA691DBD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620040"/>
            <a:ext cx="243828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EP CASTILLEJA DE LA CUES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438280" y="228240"/>
            <a:ext cx="6096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DESARROLLO CURRICULAR DE CCBB Y MEJORA DEL CENT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4267080" y="6629040"/>
            <a:ext cx="609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D622E-F988-44EB-A36B-D67FEBD2C99E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362320" y="914400"/>
            <a:ext cx="640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>
            <a:hlinkClick r:id="" action="ppaction://hlinkshowjump?jump=previousslide"/>
          </p:cNvPr>
          <p:cNvSpPr/>
          <p:nvPr/>
        </p:nvSpPr>
        <p:spPr>
          <a:xfrm>
            <a:off x="8381880" y="6629400"/>
            <a:ext cx="320760" cy="228600"/>
          </a:xfrm>
          <a:custGeom>
            <a:avLst/>
            <a:gdLst>
              <a:gd name="textAreaLeft" fmla="*/ 14760 w 320760"/>
              <a:gd name="textAreaRight" fmla="*/ 306000 w 3207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0294" h="21600">
                <a:moveTo>
                  <a:pt x="0" y="0"/>
                </a:moveTo>
                <a:lnTo>
                  <a:pt x="30294" y="0"/>
                </a:lnTo>
                <a:lnTo>
                  <a:pt x="30294" y="21600"/>
                </a:lnTo>
                <a:lnTo>
                  <a:pt x="0" y="21600"/>
                </a:lnTo>
                <a:close/>
              </a:path>
              <a:path fill="lightenLess" w="30294" h="21600">
                <a:moveTo>
                  <a:pt x="0" y="0"/>
                </a:moveTo>
                <a:lnTo>
                  <a:pt x="30294" y="0"/>
                </a:lnTo>
                <a:lnTo>
                  <a:pt x="28894" y="1400"/>
                </a:lnTo>
                <a:lnTo>
                  <a:pt x="1400" y="1400"/>
                </a:lnTo>
                <a:close/>
              </a:path>
              <a:path fill="darken" w="30294" h="21600">
                <a:moveTo>
                  <a:pt x="30294" y="0"/>
                </a:moveTo>
                <a:lnTo>
                  <a:pt x="30294" y="21600"/>
                </a:lnTo>
                <a:lnTo>
                  <a:pt x="28894" y="20200"/>
                </a:lnTo>
                <a:lnTo>
                  <a:pt x="28894" y="1400"/>
                </a:lnTo>
                <a:close/>
              </a:path>
              <a:path fill="darkenLess" w="30294" h="21600">
                <a:moveTo>
                  <a:pt x="302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94" y="20200"/>
                </a:lnTo>
                <a:close/>
              </a:path>
              <a:path fill="lighten" w="302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94" h="21600">
                <a:moveTo>
                  <a:pt x="8141" y="10800"/>
                </a:moveTo>
                <a:lnTo>
                  <a:pt x="22154" y="3794"/>
                </a:lnTo>
                <a:lnTo>
                  <a:pt x="22154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>
            <a:hlinkClick r:id="" action="ppaction://hlinkshowjump?jump=nextslide"/>
          </p:cNvPr>
          <p:cNvSpPr/>
          <p:nvPr/>
        </p:nvSpPr>
        <p:spPr>
          <a:xfrm>
            <a:off x="8686800" y="6629400"/>
            <a:ext cx="320760" cy="228600"/>
          </a:xfrm>
          <a:custGeom>
            <a:avLst/>
            <a:gdLst>
              <a:gd name="textAreaLeft" fmla="*/ 14760 w 320760"/>
              <a:gd name="textAreaRight" fmla="*/ 306000 w 3207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0294" h="21600">
                <a:moveTo>
                  <a:pt x="0" y="0"/>
                </a:moveTo>
                <a:lnTo>
                  <a:pt x="30294" y="0"/>
                </a:lnTo>
                <a:lnTo>
                  <a:pt x="30294" y="21600"/>
                </a:lnTo>
                <a:lnTo>
                  <a:pt x="0" y="21600"/>
                </a:lnTo>
                <a:close/>
              </a:path>
              <a:path fill="lightenLess" w="30294" h="21600">
                <a:moveTo>
                  <a:pt x="0" y="0"/>
                </a:moveTo>
                <a:lnTo>
                  <a:pt x="30294" y="0"/>
                </a:lnTo>
                <a:lnTo>
                  <a:pt x="28894" y="1400"/>
                </a:lnTo>
                <a:lnTo>
                  <a:pt x="1400" y="1400"/>
                </a:lnTo>
                <a:close/>
              </a:path>
              <a:path fill="darken" w="30294" h="21600">
                <a:moveTo>
                  <a:pt x="30294" y="0"/>
                </a:moveTo>
                <a:lnTo>
                  <a:pt x="30294" y="21600"/>
                </a:lnTo>
                <a:lnTo>
                  <a:pt x="28894" y="20200"/>
                </a:lnTo>
                <a:lnTo>
                  <a:pt x="28894" y="1400"/>
                </a:lnTo>
                <a:close/>
              </a:path>
              <a:path fill="darkenLess" w="30294" h="21600">
                <a:moveTo>
                  <a:pt x="302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94" y="20200"/>
                </a:lnTo>
                <a:close/>
              </a:path>
              <a:path fill="lighten" w="302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94" h="21600">
                <a:moveTo>
                  <a:pt x="8141" y="3794"/>
                </a:moveTo>
                <a:lnTo>
                  <a:pt x="22154" y="10800"/>
                </a:lnTo>
                <a:lnTo>
                  <a:pt x="814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bp3.blogger.com/_9o_TBponioc/Ryi6PKaJgxI/AAAAAAAAABc/dVf6NeJN3TE/s1600-h/argumentarios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bp0.blogger.com/_3X9GAT24T6Y/RuDYi_oDucI/AAAAAAAADPs/lr9PTtN41jk/s1600-h/brainstorm.gif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730080"/>
            <a:ext cx="8534160" cy="1219320"/>
          </a:xfrm>
          <a:prstGeom prst="downArrowCallout">
            <a:avLst>
              <a:gd name="adj1" fmla="val -48403"/>
              <a:gd name="adj2" fmla="val 152976"/>
              <a:gd name="adj3" fmla="val 33986"/>
              <a:gd name="adj4" fmla="val 42449"/>
            </a:avLst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76104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ENSAMIENTO REFLEX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2025720"/>
            <a:ext cx="8610480" cy="3733560"/>
          </a:xfrm>
          <a:prstGeom prst="roundRect">
            <a:avLst>
              <a:gd name="adj" fmla="val 16667"/>
            </a:avLst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3 CuadroTexto"/>
          <p:cNvSpPr/>
          <p:nvPr/>
        </p:nvSpPr>
        <p:spPr>
          <a:xfrm>
            <a:off x="457200" y="225432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ensamiento reflexiv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es el modo de pensar que nos permi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Ordenar nuestras ideas y tomar conciencia de ell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Reconocer y valorar nuestra forma de pens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ensar reflexivamente nos permite tomar conciencia de nuestro “estilo de pensamiento”, así como de nuestra “mentalidad”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2A7B-3445-4F19-AA74-973D63DE098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http://bp3.blogger.com/_9o_TBponioc/Ryi6PKaJgxI/AAAAAAAAABc/dVf6NeJN3TE/s320/argumentario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952560"/>
            <a:ext cx="5257800" cy="49528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 rot="754200">
            <a:off x="4952520" y="3429000"/>
            <a:ext cx="3733920" cy="14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60093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ENSAMIENT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60093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60093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LÓGIC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60093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3E98-CAF0-4070-8884-9D391254EDA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343080" y="1219320"/>
          <a:ext cx="8458200" cy="4289400"/>
        </p:xfrm>
        <a:graphic>
          <a:graphicData uri="http://schemas.openxmlformats.org/drawingml/2006/table">
            <a:tbl>
              <a:tblPr/>
              <a:tblGrid>
                <a:gridCol w="3208320"/>
                <a:gridCol w="5249880"/>
              </a:tblGrid>
              <a:tr h="858960"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ETENCIAS BÁSI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ENSAMIENTO LÓG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Opera con razones y crea argumento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1220040">
                <a:tc>
                  <a:txBody>
                    <a:bodyPr lIns="47880" rIns="47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etencia aprender a apren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dentifica las razone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que exponen las personas que no quieren limitar el consumo de televisión y las que quieren limitarl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</a:tr>
              <a:tr h="982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etencia social y ciudad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cribe de una forma clara y ordenada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s conclusione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que has obtenido de tu análisis de una notici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960">
                <a:tc>
                  <a:txBody>
                    <a:bodyPr lIns="47880" rIns="47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etencia autonomía e iniciativa persona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scribe y expresa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us propias razone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para el uso libre o limitado de la televisión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B597-CC6E-4546-B406-7179B659011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36600" y="2057400"/>
          <a:ext cx="8470800" cy="3011400"/>
        </p:xfrm>
        <a:graphic>
          <a:graphicData uri="http://schemas.openxmlformats.org/drawingml/2006/table">
            <a:tbl>
              <a:tblPr/>
              <a:tblGrid>
                <a:gridCol w="4235400"/>
                <a:gridCol w="4235400"/>
              </a:tblGrid>
              <a:tr h="461520">
                <a:tc gridSpan="2"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LABORAR UNA GUÍA DE LA LOCAL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0360"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CESO COGNITIVO LÓG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NTENI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1829880">
                <a:tc>
                  <a:txBody>
                    <a:bodyPr lIns="47880" rIns="47880" tIns="0" bIns="0"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ctividade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rdena los monumentos de la localidad para realizar itinerario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glas, concep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12C1-BF05-4E8E-80E3-A0C6A853903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04920" y="533520"/>
            <a:ext cx="8534160" cy="1218960"/>
          </a:xfrm>
          <a:prstGeom prst="downArrowCallout">
            <a:avLst>
              <a:gd name="adj1" fmla="val -48418"/>
              <a:gd name="adj2" fmla="val 153021"/>
              <a:gd name="adj3" fmla="val 33986"/>
              <a:gd name="adj4" fmla="val 42449"/>
            </a:avLst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60840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ENSAMIENTO CRÍ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760" y="1828800"/>
            <a:ext cx="8610480" cy="44956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2 Rectángulo"/>
          <p:cNvSpPr/>
          <p:nvPr/>
        </p:nvSpPr>
        <p:spPr>
          <a:xfrm>
            <a:off x="447840" y="1828800"/>
            <a:ext cx="8248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El pensamiento crítico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 se interesa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por los fundamentos en los que se asienta nuestras ideas, nuestras acciones, nuestras valoraciones, o nuestros juici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l pensamiento crítico nos enfrenta, como si de un juego de espejos se tratara, a la realidad en todas sus dimensiones: la realidad como decimos que es, la realidad como deseamos que sea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l pensamiento crítico es el pensamiento de los interrogantes, de las preguntas.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Qué hace posible… (Condiciones de posibilidad o necesida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CDAD-9BFE-4EC4-A201-A91ADB9EF88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5 Grupo"/>
          <p:cNvGrpSpPr/>
          <p:nvPr/>
        </p:nvGrpSpPr>
        <p:grpSpPr>
          <a:xfrm>
            <a:off x="1143000" y="685800"/>
            <a:ext cx="7238880" cy="5867280"/>
            <a:chOff x="1143000" y="685800"/>
            <a:chExt cx="7238880" cy="5867280"/>
          </a:xfrm>
        </p:grpSpPr>
        <p:pic>
          <p:nvPicPr>
            <p:cNvPr id="73" name="Picture 2" descr="lc3"/>
            <p:cNvPicPr/>
            <p:nvPr/>
          </p:nvPicPr>
          <p:blipFill>
            <a:blip r:embed="rId1"/>
            <a:stretch/>
          </p:blipFill>
          <p:spPr>
            <a:xfrm>
              <a:off x="1143000" y="685800"/>
              <a:ext cx="7238880" cy="586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4 Rectángulo"/>
            <p:cNvSpPr/>
            <p:nvPr/>
          </p:nvSpPr>
          <p:spPr>
            <a:xfrm>
              <a:off x="6178680" y="6021360"/>
              <a:ext cx="220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Calibri"/>
                </a:rPr>
                <a:t>Dr. Richard Paul y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Calibri"/>
                </a:rPr>
                <a:t>Dra. Linda Eld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 txBox="1"/>
          <p:nvPr/>
        </p:nvSpPr>
        <p:spPr>
          <a:xfrm rot="19095600">
            <a:off x="0" y="1066320"/>
            <a:ext cx="2260440" cy="84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ENSAMIENT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RÍTIC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1AD7-C38B-4372-9724-C4ED5B83993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343080" y="914400"/>
          <a:ext cx="8458200" cy="4950000"/>
        </p:xfrm>
        <a:graphic>
          <a:graphicData uri="http://schemas.openxmlformats.org/drawingml/2006/table">
            <a:tbl>
              <a:tblPr/>
              <a:tblGrid>
                <a:gridCol w="3209760"/>
                <a:gridCol w="5248440"/>
              </a:tblGrid>
              <a:tr h="954000"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OMPETENCIAS BÁSI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66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PENSAMIENTO CRÍT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(Opera con preguntas y busca razones, supuestos, condiciones, etc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66"/>
                    </a:solidFill>
                  </a:tcPr>
                </a:tc>
              </a:tr>
              <a:tr h="1524240">
                <a:tc>
                  <a:txBody>
                    <a:bodyPr lIns="47880" rIns="47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etencia comunicati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e el acuerdo suscrito por las televisiones para no emitir determinadas imágenes en horario infantil y 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subraya las razone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por las que se adopt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</a:tr>
              <a:tr h="1218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etencia social y ciudad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bserva los programas en horario infantil y 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comprueba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n que cadenas se cumple y en que cadenas no se cumpl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2800">
                <a:tc>
                  <a:txBody>
                    <a:bodyPr lIns="47880" rIns="47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etencia autonomía e iniciativa persona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labora un listado de algunas de las 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consecuencia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positivas y/o negativas que puede tener el consumo limitado de la televisió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DF42-5864-4A2E-8250-A03A579BD25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336600" y="2133720"/>
          <a:ext cx="8470800" cy="3011400"/>
        </p:xfrm>
        <a:graphic>
          <a:graphicData uri="http://schemas.openxmlformats.org/drawingml/2006/table">
            <a:tbl>
              <a:tblPr/>
              <a:tblGrid>
                <a:gridCol w="4235400"/>
                <a:gridCol w="4235400"/>
              </a:tblGrid>
              <a:tr h="461880">
                <a:tc gridSpan="2"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LABORAR UNA GUÍA DE LA LOCAL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0720"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CESO COGNITIVO CRÍT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66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NTENI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66"/>
                    </a:solidFill>
                  </a:tcPr>
                </a:tc>
              </a:tr>
              <a:tr h="1828800">
                <a:tc>
                  <a:txBody>
                    <a:bodyPr lIns="47880" rIns="47880" tIns="0" bIns="0"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ctividade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Qué sería necesario mejorar para atraer al turismo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nceptos, valor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AB1D-203E-4907-A9E7-679A4D10BAE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04920" y="1415880"/>
            <a:ext cx="8534160" cy="1219320"/>
          </a:xfrm>
          <a:prstGeom prst="downArrowCallout">
            <a:avLst>
              <a:gd name="adj1" fmla="val -48403"/>
              <a:gd name="adj2" fmla="val 152976"/>
              <a:gd name="adj3" fmla="val 33986"/>
              <a:gd name="adj4" fmla="val 42449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1446840"/>
            <a:ext cx="8382240" cy="4597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ENSAMIENTO CRE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66760" y="3048120"/>
            <a:ext cx="8610480" cy="213336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2 Rectángulo"/>
          <p:cNvSpPr/>
          <p:nvPr/>
        </p:nvSpPr>
        <p:spPr>
          <a:xfrm>
            <a:off x="249120" y="3200400"/>
            <a:ext cx="8643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El pensamiento creativo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puede ser concebido y definido como un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pensamiento de la posibilidad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l pensamiento creativo, entendido como el uso consciente de la capacidad autorganizativa de nuestro cerebro, puede ser aprendi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05F8-081C-4D74-8649-745FE7CB8DB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http://bp0.blogger.com/_3X9GAT24T6Y/RuDYi_oDucI/AAAAAAAADPs/lr9PTtN41jk/s400/brainstorm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86200" y="838080"/>
            <a:ext cx="4849920" cy="56390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 rot="19821600">
            <a:off x="1426680" y="498600"/>
            <a:ext cx="29894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ENSAMIENT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REATIV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4B75-DBA8-470D-B1E5-21CFC08D1C9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304920" y="685800"/>
          <a:ext cx="8458200" cy="5181480"/>
        </p:xfrm>
        <a:graphic>
          <a:graphicData uri="http://schemas.openxmlformats.org/drawingml/2006/table">
            <a:tbl>
              <a:tblPr/>
              <a:tblGrid>
                <a:gridCol w="3206520"/>
                <a:gridCol w="5251680"/>
              </a:tblGrid>
              <a:tr h="911520"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OMPETENCIAS BÁSI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PENSAMIENTO CREATI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(Opera con ideas y busca nuevas idea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</a:tr>
              <a:tr h="1220040">
                <a:tc>
                  <a:txBody>
                    <a:bodyPr lIns="47880" rIns="47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etencia comunic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Escribe alguna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frases que sirvan de lemas para 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animar a participar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en el proyecto de un consumo responsable de la televisió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</a:tr>
              <a:tr h="1829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etencia social y ciudad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Prepara algunas propuesta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para presentarlas 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como alternativa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en el debate que vamos a realizar en clase son esta cuestión ¿qué actividades se podrían desarrollar como alternativa a ver la televisión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040">
                <a:tc>
                  <a:txBody>
                    <a:bodyPr lIns="47880" rIns="47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etencia cultural y artíst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Diseña algunos sencillos logotipo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que sirvan para animar a participar en la campaña por un consumo responsable de la televisió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8090-A502-430E-BFE1-F687D26B62D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mapa%20mental%20(Bouzan,%202003)"/>
          <p:cNvPicPr/>
          <p:nvPr/>
        </p:nvPicPr>
        <p:blipFill>
          <a:blip r:embed="rId1"/>
          <a:srcRect l="0" t="0" r="0" b="8798"/>
          <a:stretch/>
        </p:blipFill>
        <p:spPr>
          <a:xfrm>
            <a:off x="1523880" y="533520"/>
            <a:ext cx="6286680" cy="5771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 rot="20612400">
            <a:off x="380880" y="837720"/>
            <a:ext cx="31053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ENSAMIENT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REFLEXIV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E801-A8D0-440D-AA1F-915EF1E350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336600" y="1371600"/>
          <a:ext cx="8470800" cy="3925800"/>
        </p:xfrm>
        <a:graphic>
          <a:graphicData uri="http://schemas.openxmlformats.org/drawingml/2006/table">
            <a:tbl>
              <a:tblPr/>
              <a:tblGrid>
                <a:gridCol w="4235400"/>
                <a:gridCol w="4235400"/>
              </a:tblGrid>
              <a:tr h="461880">
                <a:tc gridSpan="2"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LABORAR UNA GUÍA DE LA LOCAL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0720"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PROCESO COGNITIVO CREATI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ONTENI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</a:tr>
              <a:tr h="2743200">
                <a:tc>
                  <a:txBody>
                    <a:bodyPr lIns="47880" rIns="47880" tIns="0" bIns="0"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ctividade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seña la portada de la guí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seña un logotip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studia unas propuestas para mejorar la vida en el puebl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deas, propues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CC83-F0EA-4D48-82EB-DC8285256C0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04920" y="882720"/>
            <a:ext cx="8534160" cy="1218960"/>
          </a:xfrm>
          <a:prstGeom prst="downArrowCallout">
            <a:avLst>
              <a:gd name="adj1" fmla="val -48418"/>
              <a:gd name="adj2" fmla="val 153021"/>
              <a:gd name="adj3" fmla="val 33986"/>
              <a:gd name="adj4" fmla="val 4244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913320"/>
            <a:ext cx="83822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ENSAMIENTO ANALÓ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66760" y="2133720"/>
            <a:ext cx="8610480" cy="36576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2 Rectángulo"/>
          <p:cNvSpPr/>
          <p:nvPr/>
        </p:nvSpPr>
        <p:spPr>
          <a:xfrm>
            <a:off x="477720" y="2286000"/>
            <a:ext cx="81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El pensamiento analógic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usca permanentemente similitudes entre cosas y situaciones que aparentemente son diferentes, y busca diferencias entre cosas y/o situaciones que aparentemente son similar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 pensamiento analógico establece conexiones entre los mundos visibles e invisibles trazando puentes que nos muestran sus semejanz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DE45-83FA-4922-8EFF-83752C0DA43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http://www.scielo.org.co/img/revistas/inno/v13n22/v13n22a06anex1.gif"/>
          <p:cNvPicPr/>
          <p:nvPr/>
        </p:nvPicPr>
        <p:blipFill>
          <a:blip r:embed="rId1"/>
          <a:stretch/>
        </p:blipFill>
        <p:spPr>
          <a:xfrm>
            <a:off x="3200400" y="685800"/>
            <a:ext cx="4822920" cy="5715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 rot="21188400">
            <a:off x="990720" y="1066680"/>
            <a:ext cx="2989080" cy="130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ENSAMIENT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ALÓGIC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55BB-5255-4938-9CF6-4E00B9CF837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343080" y="1371600"/>
          <a:ext cx="8458200" cy="4103640"/>
        </p:xfrm>
        <a:graphic>
          <a:graphicData uri="http://schemas.openxmlformats.org/drawingml/2006/table">
            <a:tbl>
              <a:tblPr/>
              <a:tblGrid>
                <a:gridCol w="3206520"/>
                <a:gridCol w="5251680"/>
              </a:tblGrid>
              <a:tr h="750960"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ETENCIAS BÁSI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ENSAMIENTO ANALÓG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Opera con datos e ideas y busca metáforas y modelo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828080">
                <a:tc>
                  <a:txBody>
                    <a:bodyPr lIns="47880" rIns="47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etencia comunicati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as utilizado o has oído alguna vez las expresiones: 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“telebasura” o “caja tonta”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si es así trata de responder a estas dos cuestiones: ¿qué crees que significan?, por qué crees que se utilizan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</a:tr>
              <a:tr h="1524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etencia social y ciudad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n frecuencia se dice que las personas que salen en televisión se convierten en “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modelos” a imitar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 ¿Qué crees que significa esta expresión?. ¿Podrías identificar algunos de esos “modelos”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5E74-6AFD-48A3-83E9-69CBB819C8E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336600" y="1541520"/>
          <a:ext cx="8470800" cy="3011400"/>
        </p:xfrm>
        <a:graphic>
          <a:graphicData uri="http://schemas.openxmlformats.org/drawingml/2006/table">
            <a:tbl>
              <a:tblPr/>
              <a:tblGrid>
                <a:gridCol w="4235400"/>
                <a:gridCol w="4235400"/>
              </a:tblGrid>
              <a:tr h="461520">
                <a:tc gridSpan="2"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LABORAR UNA GUÍA DE LA LOCAL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0360"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CESO COGNITIVO ANALÓG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NTENI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829880">
                <a:tc>
                  <a:txBody>
                    <a:bodyPr lIns="47880" rIns="47880" tIns="0" bIns="0"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ctividade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nstruir una maqueta de la localidad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uscar un logotipo y justificarl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atos e ide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4CD1-3251-42E7-8709-AEA5F3F7848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04920" y="1035000"/>
            <a:ext cx="8534160" cy="1219320"/>
          </a:xfrm>
          <a:prstGeom prst="downArrowCallout">
            <a:avLst>
              <a:gd name="adj1" fmla="val -48403"/>
              <a:gd name="adj2" fmla="val 152976"/>
              <a:gd name="adj3" fmla="val 33986"/>
              <a:gd name="adj4" fmla="val 42449"/>
            </a:avLst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1065600"/>
            <a:ext cx="838224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ENSAMIENTO DELIBER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66760" y="2438280"/>
            <a:ext cx="8610480" cy="3276720"/>
          </a:xfrm>
          <a:prstGeom prst="roundRect">
            <a:avLst>
              <a:gd name="adj" fmla="val 16667"/>
            </a:avLst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2 Rectángulo"/>
          <p:cNvSpPr/>
          <p:nvPr/>
        </p:nvSpPr>
        <p:spPr>
          <a:xfrm>
            <a:off x="351000" y="2590920"/>
            <a:ext cx="844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El pensamiento deliberativo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es el modo de pensar que conviene desarrollar en la adopción de decision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l pensamiento deliberativo nos conduce hasta la adopción de una decisión, pero lo hace, habitualmente no con la forma de un “cálculo lógico”, o de un algoritmo, sino con la forma de un “cálculo de criterios y/o de valore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634F-65EE-4EA3-B6F9-9897DA0D22C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http://images.google.es/url?q=http://upload.wikimedia.org/wikipedia/commons/thumb/5/5b/Byzantinischer_Mosaizist_des_5._Jahrhunderts_002.jpg/250px-Byzantinischer_Mosaizist_des_5._Jahrhunderts_002.jpg&amp;usg=AFQjCNHWOdwqAKTegOIvXgBqzJ0FjdRgWQ"/>
          <p:cNvPicPr/>
          <p:nvPr/>
        </p:nvPicPr>
        <p:blipFill>
          <a:blip r:embed="rId1"/>
          <a:stretch/>
        </p:blipFill>
        <p:spPr>
          <a:xfrm>
            <a:off x="2133720" y="533520"/>
            <a:ext cx="4267080" cy="53337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 rot="21086400">
            <a:off x="5181120" y="4723920"/>
            <a:ext cx="2989440" cy="130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ENSAMIENT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DELIBERATIV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B844-E27B-4C52-937F-F6A9FB46A5A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304920" y="838080"/>
          <a:ext cx="8458200" cy="5416560"/>
        </p:xfrm>
        <a:graphic>
          <a:graphicData uri="http://schemas.openxmlformats.org/drawingml/2006/table">
            <a:tbl>
              <a:tblPr/>
              <a:tblGrid>
                <a:gridCol w="3208320"/>
                <a:gridCol w="5249880"/>
              </a:tblGrid>
              <a:tr h="801720"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OMPETENCIAS BÁSI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PENSAMIENTO DELIBERATI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(Opera con criterios para adoptar decision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</a:tr>
              <a:tr h="1524240">
                <a:tc>
                  <a:txBody>
                    <a:bodyPr lIns="47880" rIns="47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etencia comunicati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dacta con claridad con precisión y precisión 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los criterios que convendrí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tener en cuenta para decidir sobre el consumo responsable de la televisió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</a:tr>
              <a:tr h="1828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etencia social y ciudad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epara 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tus propios argumento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para participar activamente en el debate que vamos a realizar en clase para responder a esta cuestión: ¿debemos limitar el uso de la televisión en casa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1800">
                <a:tc>
                  <a:txBody>
                    <a:bodyPr lIns="47880" rIns="47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etencia autonomía e iniciativa persona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Decide y expres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en tu agenda semanal las horas y días en los que verás la televisió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0F20-5CDE-4852-A97E-2E72C399C00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336600" y="1752480"/>
          <a:ext cx="8470800" cy="2706840"/>
        </p:xfrm>
        <a:graphic>
          <a:graphicData uri="http://schemas.openxmlformats.org/drawingml/2006/table">
            <a:tbl>
              <a:tblPr/>
              <a:tblGrid>
                <a:gridCol w="4235400"/>
                <a:gridCol w="4235400"/>
              </a:tblGrid>
              <a:tr h="461880">
                <a:tc gridSpan="2"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LABORAR UNA GUÍA DE LA LOCAL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0360"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PROCESO COGNITIVO DELIBERATI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ONTENI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</a:tr>
              <a:tr h="1524960">
                <a:tc>
                  <a:txBody>
                    <a:bodyPr lIns="47880" rIns="47880" tIns="0" bIns="0"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ctividade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batir y seleccionar las mejores imágenes de la localidad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riterios y valo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E294-10EB-4CB6-B8BA-76A42A45ED2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1035000"/>
            <a:ext cx="8534160" cy="1219320"/>
          </a:xfrm>
          <a:prstGeom prst="downArrowCallout">
            <a:avLst>
              <a:gd name="adj1" fmla="val -48403"/>
              <a:gd name="adj2" fmla="val 152976"/>
              <a:gd name="adj3" fmla="val 33986"/>
              <a:gd name="adj4" fmla="val 42449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1065600"/>
            <a:ext cx="8382240" cy="4597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ENSAMIENTO PRÁC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66760" y="2590920"/>
            <a:ext cx="8610480" cy="3276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2 Rectángulo"/>
          <p:cNvSpPr/>
          <p:nvPr/>
        </p:nvSpPr>
        <p:spPr>
          <a:xfrm>
            <a:off x="357120" y="2666880"/>
            <a:ext cx="8429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El pensamiento práctico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ayuda a superar todas aquellas situaciones en las que parece necesario y/o conveniente desarrollar alguna acción, ya sea para resolver un problema, introducir una mejora, o evitar que la situación empeo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l pensamiento práctico persigue la creación de “rutinas útiles” es decir el encadenamiento de acciones cuyos resultados finales son deseab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9C8D-1954-43BA-B44A-6DCB35C8DFB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334800" y="762120"/>
          <a:ext cx="8472600" cy="5437080"/>
        </p:xfrm>
        <a:graphic>
          <a:graphicData uri="http://schemas.openxmlformats.org/drawingml/2006/table">
            <a:tbl>
              <a:tblPr/>
              <a:tblGrid>
                <a:gridCol w="2713320"/>
                <a:gridCol w="5759280"/>
              </a:tblGrid>
              <a:tr h="865080"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ETENCIAS BÁSI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ENSAMIENTO REFLEXIV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Opera con ideas, sentimientos, emociones, etc.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1219320">
                <a:tc>
                  <a:txBody>
                    <a:bodyPr lIns="47880" rIns="47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etencia comunicati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labora una lista de 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tus programa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favorito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 televisión y junto a cada uno de ellos expresa las razones por las que te gusta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</a:tr>
              <a:tr h="1218960">
                <a:tc>
                  <a:txBody>
                    <a:bodyPr lIns="47880" rIns="47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etencia matemát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leta 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tu lista de programa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favorito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con el tiempo que dedicamos a ver cada uno de ellos y el horario en el que lo realiz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3720">
                <a:tc>
                  <a:txBody>
                    <a:bodyPr lIns="47880" rIns="47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etencia en el conocimiento y la interac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ñade a la lista anterior una descripción 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de tu comportamient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cuando estás viendo esos problemas (te sientas, comes, lees, hablas, comes, etc.), así como una descripción de las condiciones 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en las que ves la televisió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en mi habitación, en un salón, en la cocina, etc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A699-A0FD-4EDD-8F8B-D60556C88E3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http://www.adrformacion.com/udsimg/calidad/3/Plantilla.gif"/>
          <p:cNvPicPr/>
          <p:nvPr/>
        </p:nvPicPr>
        <p:blipFill>
          <a:blip r:embed="rId1"/>
          <a:stretch/>
        </p:blipFill>
        <p:spPr>
          <a:xfrm>
            <a:off x="2790720" y="762120"/>
            <a:ext cx="5139000" cy="52578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 rot="2749200">
            <a:off x="529560" y="2441520"/>
            <a:ext cx="2989440" cy="13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ENSAMIENT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RÁTIC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088E-3EA5-4A44-B21D-B6C407985A2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2920" y="762120"/>
          <a:ext cx="8696160" cy="5211720"/>
        </p:xfrm>
        <a:graphic>
          <a:graphicData uri="http://schemas.openxmlformats.org/drawingml/2006/table">
            <a:tbl>
              <a:tblPr/>
              <a:tblGrid>
                <a:gridCol w="3297240"/>
                <a:gridCol w="5398920"/>
              </a:tblGrid>
              <a:tr h="934920"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OMPETENCIAS BÁSI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PENSAMIENTO PRÁCT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(Opera con datos, hechos y permite abstrae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1218960">
                <a:tc>
                  <a:txBody>
                    <a:bodyPr lIns="47880" rIns="47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etencia matemát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presenta gráficamente 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la secuencia de accione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necesarias para llevar a cabo el proyecto para un consumo responsabl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</a:tr>
              <a:tr h="1829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etencia social y ciudad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Organiza una agenda semanal de actividade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que incluya un consumo limitado y responsable de la televisión y que te permita desarrollar otras actividades, incluidas los deberes del colegi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960">
                <a:tc>
                  <a:txBody>
                    <a:bodyPr lIns="47880" rIns="47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etencia en el conocimiento y la interac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Prepara los documentos y los espacio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en el aula para realizar el debate sobre el consumo responsable de la televisió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CFDA-46B2-4AF5-AAB8-BDB585F4219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336600" y="2076480"/>
          <a:ext cx="8470800" cy="2797200"/>
        </p:xfrm>
        <a:graphic>
          <a:graphicData uri="http://schemas.openxmlformats.org/drawingml/2006/table">
            <a:tbl>
              <a:tblPr/>
              <a:tblGrid>
                <a:gridCol w="4235400"/>
                <a:gridCol w="4235400"/>
              </a:tblGrid>
              <a:tr h="4604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LABORAR UNA GUÍA DE LA LOCAL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8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PROCESO COGNITIVO PRÁCT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ONTENI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1618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ctividade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rganizar el trabajo de los grupos para la realización de la guía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atos, hechos, procedimientos, et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2A75-3EB8-469B-919F-1D56B51C9AC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4920" y="1035000"/>
            <a:ext cx="8534160" cy="1219320"/>
          </a:xfrm>
          <a:prstGeom prst="downArrowCallout">
            <a:avLst>
              <a:gd name="adj1" fmla="val -48403"/>
              <a:gd name="adj2" fmla="val 152976"/>
              <a:gd name="adj3" fmla="val 33986"/>
              <a:gd name="adj4" fmla="val 42449"/>
            </a:avLst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1065600"/>
            <a:ext cx="8382240" cy="459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ENSAMIENTO SISTÉ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66760" y="2590920"/>
            <a:ext cx="8610480" cy="289548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2 Rectángulo"/>
          <p:cNvSpPr/>
          <p:nvPr/>
        </p:nvSpPr>
        <p:spPr>
          <a:xfrm>
            <a:off x="371520" y="2743200"/>
            <a:ext cx="8400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El pensamiento sistémic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es la vía por la que accedemos a las realidades complejas, a las realidades que son irreductibles a sus partes, a las realidades que desaparecen cuando las fragmentam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 pensador sistémico, define relaciones y las presenta en forma de sistemas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E8EC-FCC4-4BA1-8FEB-DF56B2796E1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Diagrama del ciclo del agua. "/>
          <p:cNvPicPr/>
          <p:nvPr/>
        </p:nvPicPr>
        <p:blipFill>
          <a:blip r:embed="rId1"/>
          <a:stretch/>
        </p:blipFill>
        <p:spPr>
          <a:xfrm>
            <a:off x="1084320" y="762120"/>
            <a:ext cx="4416480" cy="55623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 rot="1617000">
            <a:off x="5866920" y="2437920"/>
            <a:ext cx="2989440" cy="130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ENSAMIENT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ISTÉMIC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1794-3556-4D61-BDB7-1B156D7F67C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228600" y="990720"/>
          <a:ext cx="8686800" cy="4954320"/>
        </p:xfrm>
        <a:graphic>
          <a:graphicData uri="http://schemas.openxmlformats.org/drawingml/2006/table">
            <a:tbl>
              <a:tblPr/>
              <a:tblGrid>
                <a:gridCol w="2971800"/>
                <a:gridCol w="5715000"/>
              </a:tblGrid>
              <a:tr h="1109520"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ETENCIAS BÁSIC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ENSAMIENTO SISTÉM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Opera con datos e ideas y busca establecer relaciones de orde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1098720">
                <a:tc>
                  <a:txBody>
                    <a:bodyPr lIns="47880" rIns="47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etencia tecnología de la información y competencia digita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usca en distintas fuentes de información las programaciones semanales de las televisiones y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comprueba si hay relación entre los programas y el horario en el que se emite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</a:tr>
              <a:tr h="1373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etencia social y ciudad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naliza las listas de programas más vistos de tus compañeros y compañeras y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comprueba si hay alguna relación entre el tiempo dedicado a ver televisión y los resultados en la escuel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040">
                <a:tc>
                  <a:txBody>
                    <a:bodyPr lIns="47880" rIns="47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etencia cultural y artís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usca en distintas fuentes de información las programaciones semanales de las televisiones (nacionales y autonómicas) y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comprueba si hay relación entre los programas y el lugar desde donde emite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BCF8-87C8-4A7E-881A-E81F318F53E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336600" y="1447920"/>
          <a:ext cx="8470800" cy="3711600"/>
        </p:xfrm>
        <a:graphic>
          <a:graphicData uri="http://schemas.openxmlformats.org/drawingml/2006/table">
            <a:tbl>
              <a:tblPr/>
              <a:tblGrid>
                <a:gridCol w="4235400"/>
                <a:gridCol w="4235400"/>
              </a:tblGrid>
              <a:tr h="4604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LABORAR UNA GUÍA DE LA LOCAL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PROCESO COGNITIVO SISTÉM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ONTENI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25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ctividade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studiar los datos de los visitantes de la localidad antes y después de la elaboración de la guí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señar cualquier actividad de reciclaje.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atos e ide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274C-7956-4907-BAE3-5690B8774F2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914400" y="2590920"/>
            <a:ext cx="7315200" cy="838080"/>
            <a:chOff x="914400" y="2590920"/>
            <a:chExt cx="7315200" cy="838080"/>
          </a:xfrm>
        </p:grpSpPr>
        <p:sp>
          <p:nvSpPr>
            <p:cNvPr id="119" name=""/>
            <p:cNvSpPr/>
            <p:nvPr/>
          </p:nvSpPr>
          <p:spPr>
            <a:xfrm>
              <a:off x="914400" y="2590920"/>
              <a:ext cx="7315200" cy="838080"/>
            </a:xfrm>
            <a:prstGeom prst="roundRect">
              <a:avLst>
                <a:gd name="adj" fmla="val 16667"/>
              </a:avLst>
            </a:prstGeom>
            <a:solidFill>
              <a:srgbClr val="0000ff"/>
            </a:solidFill>
            <a:ln w="0">
              <a:noFill/>
            </a:ln>
            <a:effectLst>
              <a:outerShdw dist="188838" dir="19062257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028880" y="2727360"/>
              <a:ext cx="70866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88838" dir="19062257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 Black"/>
                </a:rPr>
                <a:t>EJEMPLO DE TAREA 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9005-CE76-465F-8297-D0C42E01AB9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52280" y="609480"/>
            <a:ext cx="8763120" cy="19814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0440" y="685800"/>
            <a:ext cx="8223120" cy="3235320"/>
          </a:xfrm>
          <a:prstGeom prst="downArrowCallout">
            <a:avLst>
              <a:gd name="adj1" fmla="val -54179"/>
              <a:gd name="adj2" fmla="val 61894"/>
              <a:gd name="adj3" fmla="val 14991"/>
              <a:gd name="adj4" fmla="val 48273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4560" y="1066680"/>
            <a:ext cx="79930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ARE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UBLICAR EN EL  BLOG DE LA CLASE UN INFORME  SOBRE LOS INMIGRANTES DE LA LOC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58920" y="4149720"/>
            <a:ext cx="8569080" cy="1584360"/>
            <a:chOff x="358920" y="4149720"/>
            <a:chExt cx="8569080" cy="1584360"/>
          </a:xfrm>
        </p:grpSpPr>
        <p:sp>
          <p:nvSpPr>
            <p:cNvPr id="125" name=""/>
            <p:cNvSpPr/>
            <p:nvPr/>
          </p:nvSpPr>
          <p:spPr>
            <a:xfrm>
              <a:off x="358920" y="4149720"/>
              <a:ext cx="8569080" cy="158436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611280" y="4365720"/>
              <a:ext cx="1799640" cy="1078920"/>
              <a:chOff x="611280" y="4365720"/>
              <a:chExt cx="1799640" cy="1078920"/>
            </a:xfrm>
          </p:grpSpPr>
          <p:sp>
            <p:nvSpPr>
              <p:cNvPr id="127" name=""/>
              <p:cNvSpPr/>
              <p:nvPr/>
            </p:nvSpPr>
            <p:spPr>
              <a:xfrm>
                <a:off x="611280" y="4365720"/>
                <a:ext cx="1799640" cy="1078920"/>
              </a:xfrm>
              <a:prstGeom prst="roundRect">
                <a:avLst>
                  <a:gd name="adj" fmla="val 16667"/>
                </a:avLst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57000" y="4538880"/>
                <a:ext cx="1710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Verdana"/>
                  </a:rPr>
                  <a:t>ORIGEN Y VIAJ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2916360" y="4402080"/>
              <a:ext cx="2160000" cy="1079280"/>
              <a:chOff x="2916360" y="4402080"/>
              <a:chExt cx="2160000" cy="1079280"/>
            </a:xfrm>
          </p:grpSpPr>
          <p:sp>
            <p:nvSpPr>
              <p:cNvPr id="130" name=""/>
              <p:cNvSpPr/>
              <p:nvPr/>
            </p:nvSpPr>
            <p:spPr>
              <a:xfrm>
                <a:off x="2916360" y="4402080"/>
                <a:ext cx="2160000" cy="1079280"/>
              </a:xfrm>
              <a:prstGeom prst="roundRect">
                <a:avLst>
                  <a:gd name="adj" fmla="val 16667"/>
                </a:avLst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971440" y="4575240"/>
                <a:ext cx="2052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Verdana"/>
                  </a:rPr>
                  <a:t>POR QUÉ VINIERO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5508720" y="4422600"/>
              <a:ext cx="3239280" cy="1037880"/>
              <a:chOff x="5508720" y="4422600"/>
              <a:chExt cx="3239280" cy="1037880"/>
            </a:xfrm>
          </p:grpSpPr>
          <p:sp>
            <p:nvSpPr>
              <p:cNvPr id="133" name=""/>
              <p:cNvSpPr/>
              <p:nvPr/>
            </p:nvSpPr>
            <p:spPr>
              <a:xfrm>
                <a:off x="5508720" y="4422600"/>
                <a:ext cx="3239280" cy="1037880"/>
              </a:xfrm>
              <a:prstGeom prst="roundRect">
                <a:avLst>
                  <a:gd name="adj" fmla="val 16667"/>
                </a:avLst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591160" y="4589280"/>
                <a:ext cx="3078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Verdana"/>
                  </a:rPr>
                  <a:t>INTEGRACIÓN EN LA LOCALIDA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C35C-6433-4F33-B4CB-F40A50B45DD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87280" y="1295280"/>
          <a:ext cx="8569080" cy="4986360"/>
        </p:xfrm>
        <a:graphic>
          <a:graphicData uri="http://schemas.openxmlformats.org/drawingml/2006/table">
            <a:tbl>
              <a:tblPr/>
              <a:tblGrid>
                <a:gridCol w="3925800"/>
                <a:gridCol w="2016000"/>
                <a:gridCol w="262728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CTIVIDA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CESOS COGNITIV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NTENI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1. Buscar información en páginas web de organismos oficiales, en las oficinas municipales, en los centros escolares, et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stémico, analítico, lóg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Destrezas lingüístic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Destreza dig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2 Construir tablas y gráficos con la inform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stémico, analítico, lóg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centaj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blas y gráfic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3.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aborar una lista de los países de origen y localizarlos en el mapa. Averiguar a qué distancia se encuentran y las características geográficas del viaje de venida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stémico, analítico, lóg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nejo de mapa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identes geográfico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ca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álculos matemático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4. 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flexionar en un documento sobre las dificultades del viaje de los diferentes grupos de inmigrantes (subsahariano, magrebí, rumano, etc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flexivo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Destrezas lingüístic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36" name=""/>
          <p:cNvGrpSpPr/>
          <p:nvPr/>
        </p:nvGrpSpPr>
        <p:grpSpPr>
          <a:xfrm>
            <a:off x="250920" y="685800"/>
            <a:ext cx="8640000" cy="469440"/>
            <a:chOff x="250920" y="685800"/>
            <a:chExt cx="8640000" cy="469440"/>
          </a:xfrm>
        </p:grpSpPr>
        <p:sp>
          <p:nvSpPr>
            <p:cNvPr id="137" name=""/>
            <p:cNvSpPr/>
            <p:nvPr/>
          </p:nvSpPr>
          <p:spPr>
            <a:xfrm>
              <a:off x="250920" y="685800"/>
              <a:ext cx="8640000" cy="456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71240" y="756360"/>
              <a:ext cx="821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1. ORIGEN Y VIAJ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7A57-F2B3-4D2B-8E61-3B1112CE643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336600" y="1371600"/>
          <a:ext cx="8470800" cy="4181400"/>
        </p:xfrm>
        <a:graphic>
          <a:graphicData uri="http://schemas.openxmlformats.org/drawingml/2006/table">
            <a:tbl>
              <a:tblPr/>
              <a:tblGrid>
                <a:gridCol w="4235400"/>
                <a:gridCol w="4235400"/>
              </a:tblGrid>
              <a:tr h="516960">
                <a:tc gridSpan="2"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LABORAR UNA GUÍA DE LA LOCAL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7680"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CESO COGNITIVO REFLEXI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NTENI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2787120">
                <a:tc>
                  <a:txBody>
                    <a:bodyPr lIns="47880" rIns="47880" tIns="0" bIns="0"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ctividade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scribe qué sabes de la historia de tu puebl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 Describe los monumentos más importantes y por qué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. ¿Qué más te gustaría saber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echos, conceptos, emociones, sentimientos, ide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4C5D-5B25-47FC-8D39-E062F0BE872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287280" y="1295280"/>
          <a:ext cx="8569080" cy="5097600"/>
        </p:xfrm>
        <a:graphic>
          <a:graphicData uri="http://schemas.openxmlformats.org/drawingml/2006/table">
            <a:tbl>
              <a:tblPr/>
              <a:tblGrid>
                <a:gridCol w="3565440"/>
                <a:gridCol w="2879640"/>
                <a:gridCol w="2124000"/>
              </a:tblGrid>
              <a:tr h="40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CTIVIDA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CESOS COGNITIV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NTENI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180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1. Elaborar un cuestionario para recabar información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aborar las pregun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acer el cuestionario digitalmente.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aborar tabla de volcado de la información obtenid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stémico,  analít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Destrezas lingüístic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treza dig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os estadístic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2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2. Identificar las diferentes razones y relacionarlas con los países de orige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ógico, sistémico, deliberativ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stemas político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mografí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3. Seleccionar información en la prensa que recoja historias similares de las obtenidas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flexivo, lógico, analóg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Destrezas lingüístic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4.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resar por escrito la opinión personal sobre los motivos de los inmigrantes para veni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flexivo, crítico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Destrezas lingüístic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40" name=""/>
          <p:cNvGrpSpPr/>
          <p:nvPr/>
        </p:nvGrpSpPr>
        <p:grpSpPr>
          <a:xfrm>
            <a:off x="250920" y="685800"/>
            <a:ext cx="8640000" cy="576360"/>
            <a:chOff x="250920" y="685800"/>
            <a:chExt cx="8640000" cy="576360"/>
          </a:xfrm>
        </p:grpSpPr>
        <p:sp>
          <p:nvSpPr>
            <p:cNvPr id="141" name=""/>
            <p:cNvSpPr/>
            <p:nvPr/>
          </p:nvSpPr>
          <p:spPr>
            <a:xfrm>
              <a:off x="250920" y="685800"/>
              <a:ext cx="8640000" cy="576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1240" y="778320"/>
              <a:ext cx="821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.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OR QUÉ VINIER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36CC-F2CA-4269-A140-0B228DC9A87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358920" y="1281240"/>
          <a:ext cx="8569080" cy="4626000"/>
        </p:xfrm>
        <a:graphic>
          <a:graphicData uri="http://schemas.openxmlformats.org/drawingml/2006/table">
            <a:tbl>
              <a:tblPr/>
              <a:tblGrid>
                <a:gridCol w="3565440"/>
                <a:gridCol w="2879640"/>
                <a:gridCol w="212400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CTIVIDA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CESOS COGNITIV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NTENI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1.Con la información obtenida compara las condiciones de vida de una familia inmigrante y la tuya.  Analiza las diferencia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stémico, analógico, crítico, analític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Destrezas lingüística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Destrezas matemát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.2. ¿Por qué crees que se utiliza la palabra “Ilegales” para nombrar a los inmigrantes?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alítico, crítico,  analóg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Destrezas lingüística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. Prepara argumentos para participar en el debate que haremos en clase : ¿tiene fundamento relacionar la inmigración con la delincuencia?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liberativo, reflexiv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Destrezas lingüística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.4. Prepara algunas propuestas para fomentar la integración del alumnado inmigrante de tu centr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eativ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Destrezas lingüística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Plástic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44" name=""/>
          <p:cNvGrpSpPr/>
          <p:nvPr/>
        </p:nvGrpSpPr>
        <p:grpSpPr>
          <a:xfrm>
            <a:off x="250920" y="533520"/>
            <a:ext cx="8640000" cy="576000"/>
            <a:chOff x="250920" y="533520"/>
            <a:chExt cx="8640000" cy="576000"/>
          </a:xfrm>
        </p:grpSpPr>
        <p:sp>
          <p:nvSpPr>
            <p:cNvPr id="145" name=""/>
            <p:cNvSpPr/>
            <p:nvPr/>
          </p:nvSpPr>
          <p:spPr>
            <a:xfrm>
              <a:off x="250920" y="533520"/>
              <a:ext cx="8640000" cy="576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71240" y="626040"/>
              <a:ext cx="821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3.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RADO DE INTEGRACIÓ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9E65-B114-4A3E-ABE2-5B8D965F98C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730080"/>
            <a:ext cx="8534160" cy="1219320"/>
          </a:xfrm>
          <a:prstGeom prst="downArrowCallout">
            <a:avLst>
              <a:gd name="adj1" fmla="val -48403"/>
              <a:gd name="adj2" fmla="val 152976"/>
              <a:gd name="adj3" fmla="val 33986"/>
              <a:gd name="adj4" fmla="val 42449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761040"/>
            <a:ext cx="83822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ENSAMIENTO ANALÍ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2025720"/>
            <a:ext cx="8610480" cy="3917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 Rectángulo"/>
          <p:cNvSpPr/>
          <p:nvPr/>
        </p:nvSpPr>
        <p:spPr>
          <a:xfrm>
            <a:off x="520560" y="2133720"/>
            <a:ext cx="8101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El pensamiento analític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nos ayuda a “encuadrar”, o “cuadricular” la realidad para poder llegar a pensarla mej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í pues, el pensador analítico crea una forma de representación de la realidad basada en “casillas” claramente diferenciadas y homogéne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 pensamiento analítico se basa en la abstracción para generar datos que, a su vez, permiten establecer semejanzas y diferencias entre distintos aspectos de la rea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D636-C3FF-4FDE-AE62-C77F685A33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doc4map3"/>
          <p:cNvPicPr/>
          <p:nvPr/>
        </p:nvPicPr>
        <p:blipFill>
          <a:blip r:embed="rId1"/>
          <a:stretch/>
        </p:blipFill>
        <p:spPr>
          <a:xfrm>
            <a:off x="380880" y="685800"/>
            <a:ext cx="5029200" cy="3657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"/>
          <p:cNvGraphicFramePr/>
          <p:nvPr/>
        </p:nvGraphicFramePr>
        <p:xfrm>
          <a:off x="2514600" y="4495680"/>
          <a:ext cx="5586120" cy="1438200"/>
        </p:xfrm>
        <a:graphic>
          <a:graphicData uri="http://schemas.openxmlformats.org/drawingml/2006/table">
            <a:tbl>
              <a:tblPr/>
              <a:tblGrid>
                <a:gridCol w="1274760"/>
                <a:gridCol w="1276200"/>
                <a:gridCol w="880920"/>
                <a:gridCol w="2154240"/>
              </a:tblGrid>
              <a:tr h="168120"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onentes de una matriz de datos Samaja (19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spcAft>
                          <a:spcPts val="8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Unidad de análisi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spcAft>
                          <a:spcPts val="8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Variab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spcAft>
                          <a:spcPts val="8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Valo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spcAft>
                          <a:spcPts val="8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Indicado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spcAft>
                          <a:spcPts val="8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Jos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spcAft>
                          <a:spcPts val="8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Inteligenci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spcAft>
                          <a:spcPts val="8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12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spcAft>
                          <a:spcPts val="8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Respuestas a un determinado test.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 txBox="1"/>
          <p:nvPr/>
        </p:nvSpPr>
        <p:spPr>
          <a:xfrm rot="1821000">
            <a:off x="5602320" y="888840"/>
            <a:ext cx="3105000" cy="14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ENSAMIENT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8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ALÍTIC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8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278E-6EF3-44E0-93EC-1BC469ABD9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457200" y="762120"/>
          <a:ext cx="8458200" cy="5506920"/>
        </p:xfrm>
        <a:graphic>
          <a:graphicData uri="http://schemas.openxmlformats.org/drawingml/2006/table">
            <a:tbl>
              <a:tblPr/>
              <a:tblGrid>
                <a:gridCol w="3208320"/>
                <a:gridCol w="5249880"/>
              </a:tblGrid>
              <a:tr h="934920"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ETENCIAS BÁSI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ENSAMIENTO ANALÍT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Opera con datos, hechos y permite abstrae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828800">
                <a:tc>
                  <a:txBody>
                    <a:bodyPr lIns="47880" rIns="47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etencia matemát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labora 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una tabl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en la que puedas incluir los programas de televisión preferidos en tu clase y los tiempos que son vistos. Ordena la lista de mayor a menor preferencia y represéntala gráficament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</a:tr>
              <a:tr h="1220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etencia social y ciudad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Seleccion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una noticia de televisión y 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compar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forma y el contenido con el que aparecen en las distintas cadenas de televisió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3160">
                <a:tc>
                  <a:txBody>
                    <a:bodyPr lIns="47880" rIns="47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etencia en el conocimiento y la interac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e con atención los datos que se presentan 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en la tabl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y describe con tus propias palabras lo que esos datos nos enseñanza sobre el consumo de televisió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A2A5-9EA3-4DA5-97CE-1A65741D8A0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336600" y="1143000"/>
          <a:ext cx="8470800" cy="4840200"/>
        </p:xfrm>
        <a:graphic>
          <a:graphicData uri="http://schemas.openxmlformats.org/drawingml/2006/table">
            <a:tbl>
              <a:tblPr/>
              <a:tblGrid>
                <a:gridCol w="4235400"/>
                <a:gridCol w="4235400"/>
              </a:tblGrid>
              <a:tr h="461880">
                <a:tc gridSpan="2"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LABORAR UNA GUÍA DE LA LOCAL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0720"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CESO COGNITIVO ANALÍT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NTENI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3657600">
                <a:tc>
                  <a:txBody>
                    <a:bodyPr lIns="47880" rIns="47880" tIns="0" bIns="0"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ctividade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labora una guía de monumentos, acontecimientos y personajes de la localidad y establece relaciones entre ell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 Analizar distintas guías e identificar los apartados que contien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atos y hech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81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63DD-B250-4F3A-905F-44F22E020A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730080"/>
            <a:ext cx="8534160" cy="1219320"/>
          </a:xfrm>
          <a:prstGeom prst="downArrowCallout">
            <a:avLst>
              <a:gd name="adj1" fmla="val -48403"/>
              <a:gd name="adj2" fmla="val 152976"/>
              <a:gd name="adj3" fmla="val 33986"/>
              <a:gd name="adj4" fmla="val 42449"/>
            </a:avLst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761040"/>
            <a:ext cx="8382240" cy="4597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ENSAMIENTO LÓ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2025720"/>
            <a:ext cx="8610480" cy="40701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2 Rectángulo"/>
          <p:cNvSpPr/>
          <p:nvPr/>
        </p:nvSpPr>
        <p:spPr>
          <a:xfrm>
            <a:off x="447840" y="2133720"/>
            <a:ext cx="8248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El pensamiento lógico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, ante todo, una forma ordenada de expresar nuestras ideas y es, precisamente, esa expresión ordenada la que puede llevarnos al convencimiento de que tenemos raz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nsar lógicamente es, ante todo, obtener nuevas ideas, a partir de ideas existentes, siguiendo unas reglas precisas. Esto es: razonar, argumentar, fundament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 pensamiento lógico intenta definir, ordenar, clasificar, explicar, razonar, sacar conclusion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974A-7B9A-4977-A0DF-599E98B8651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7T17:22:09Z</dcterms:created>
  <dc:creator>hp</dc:creator>
  <dc:description/>
  <dc:language>en-US</dc:language>
  <cp:lastModifiedBy>pilar</cp:lastModifiedBy>
  <dcterms:modified xsi:type="dcterms:W3CDTF">2010-01-18T09:50:19Z</dcterms:modified>
  <cp:revision>40</cp:revision>
  <dc:subject/>
  <dc:title>Diapositiva 1</dc:title>
</cp:coreProperties>
</file>